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6591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6128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37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624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683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1104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f60b"/>
                </a:solidFill>
                <a:latin typeface="Comic Sans MS"/>
              </a:rPr>
              <a:t>Wavepackets etc.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324480" y="2514600"/>
            <a:ext cx="6299280" cy="2184480"/>
            <a:chOff x="6324480" y="2514600"/>
            <a:chExt cx="6299280" cy="2184480"/>
          </a:xfrm>
        </p:grpSpPr>
        <mc:AlternateContent>
          <mc:Choice xmlns:a14="http://schemas.microsoft.com/office/drawing/2010/main" Requires="a14">
            <p:sp>
              <p:nvSpPr>
                <p:cNvPr id="40" name=""/>
                <p:cNvSpPr txBox="1"/>
                <p:nvPr/>
              </p:nvSpPr>
              <p:spPr>
                <a:xfrm>
                  <a:off x="6842160" y="3641760"/>
                  <a:ext cx="568008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  <m:r>
                                <m:t xml:space="preserve">p</m:t>
                              </m:r>
                            </m:e>
                          </m:rad>
                        </m:den>
                      </m:f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ikx</m:t>
                          </m:r>
                        </m:sup>
                      </m:sSup>
                      <m:r>
                        <m:t xml:space="preserve">,</m:t>
                      </m:r>
                      <m:m>
                        <m:mr>
                          <m:e/>
                          <m:e/>
                        </m:mr>
                      </m:m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k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" name=""/>
            <p:cNvSpPr/>
            <p:nvPr/>
          </p:nvSpPr>
          <p:spPr>
            <a:xfrm>
              <a:off x="6324480" y="2514600"/>
              <a:ext cx="62992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Plane wave eigenstates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6680160" y="5791320"/>
            <a:ext cx="6324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cattering stat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non-normaliz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ontinuous spectr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95280" y="3505320"/>
            <a:ext cx="3657600" cy="3733560"/>
            <a:chOff x="1295280" y="3505320"/>
            <a:chExt cx="3657600" cy="3733560"/>
          </a:xfrm>
        </p:grpSpPr>
        <p:sp>
          <p:nvSpPr>
            <p:cNvPr id="44" name=""/>
            <p:cNvSpPr/>
            <p:nvPr/>
          </p:nvSpPr>
          <p:spPr>
            <a:xfrm>
              <a:off x="1295280" y="3505320"/>
              <a:ext cx="3657600" cy="373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3880" y="6705360"/>
              <a:ext cx="335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56160" y="6797520"/>
              <a:ext cx="183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66880" y="5714640"/>
              <a:ext cx="685800" cy="685440"/>
            </a:xfrm>
            <a:prstGeom prst="smileyFace">
              <a:avLst>
                <a:gd name="adj" fmla="val 928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24000" y="6700680"/>
              <a:ext cx="35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Gill Sans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502280" y="3657240"/>
              <a:ext cx="25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Free particle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110487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Wavepackets reflected from </a:t>
            </a:r>
            <a:br>
              <a:rPr sz="4200"/>
            </a:b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steps &amp; barriers</a:t>
            </a:r>
            <a:br>
              <a:rPr sz="4200"/>
            </a:b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2819520"/>
            <a:ext cx="110487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9160" indent="-431640">
              <a:lnSpc>
                <a:spcPct val="100000"/>
              </a:lnSpc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For very nice and instructive animations visit </a:t>
            </a:r>
            <a:r>
              <a:rPr b="0" lang="en-US" sz="2000" spc="-1" strike="noStrike">
                <a:solidFill>
                  <a:srgbClr val="ffffff"/>
                </a:solidFill>
                <a:latin typeface="Lucida Grande"/>
              </a:rPr>
              <a:t>http://www.quantum-physics.polytechnique.fr/en/pages/p0103.ht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1104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f60b"/>
                </a:solidFill>
                <a:uFillTx/>
                <a:latin typeface="Comic Sans MS"/>
              </a:rPr>
              <a:t>Wavepacket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33720" y="5029200"/>
            <a:ext cx="6713280" cy="1122480"/>
            <a:chOff x="2133720" y="5029200"/>
            <a:chExt cx="6713280" cy="112248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4259160" y="5029200"/>
                  <a:ext cx="4587840" cy="112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-¥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m>
                        <m:m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2133720" y="5105520"/>
              <a:ext cx="213336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with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295280" y="6858000"/>
            <a:ext cx="7221600" cy="1123920"/>
            <a:chOff x="1295280" y="6858000"/>
            <a:chExt cx="7221600" cy="1123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6172200" y="6858000"/>
                  <a:ext cx="234468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-¥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dk</m:t>
                          </m:r>
                        </m:e>
                      </m:nary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k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1295280" y="6934320"/>
              <a:ext cx="4724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Normalization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33520" y="1828800"/>
            <a:ext cx="12115800" cy="2343240"/>
            <a:chOff x="533520" y="1828800"/>
            <a:chExt cx="12115800" cy="2343240"/>
          </a:xfrm>
        </p:grpSpPr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978280" y="3048120"/>
                  <a:ext cx="6637320" cy="1123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-¥</m:t>
                          </m:r>
                        </m:sub>
                        <m:sup>
                          <m:r>
                            <m:t xml:space="preserve">¥</m:t>
                          </m:r>
                        </m:sup>
                        <m:e>
                          <m:r>
                            <m:rPr>
                              <m:lit/>
                              <m:nor/>
                            </m:rPr>
                            <m:t xml:space="preserve">dk</m:t>
                          </m:r>
                        </m:e>
                      </m:nary>
                      <m:m>
                        <m:m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</m:e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533520" y="1828800"/>
              <a:ext cx="1211580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Linear superpositions of plane wave solution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09480" y="1600200"/>
                <a:ext cx="402912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09480" y="3505320"/>
                <a:ext cx="67662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  <m:r>
                                        <m:t xml:space="preserve">a</m:t>
                                      </m:r>
                                    </m:e>
                                  </m:rad>
                                </m:den>
                              </m:f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x</m:t>
                                  </m:r>
                                </m:sup>
                              </m:sSup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pa</m:t>
                                      </m:r>
                                    </m:e>
                                  </m:rad>
                                </m:den>
                              </m:f>
                            </m:e>
                          </m:mr>
                        </m:m>
                      </m:e>
                    </m:nary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272920" y="0"/>
            <a:ext cx="2765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Example 1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924680" y="1828800"/>
            <a:ext cx="4641840" cy="2857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09480" y="5791320"/>
                <a:ext cx="7494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pa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  <m:m>
                      <m:mr>
                        <m:e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num>
                            <m:den>
                              <m:r>
                                <m:t xml:space="preserve">k</m:t>
                              </m:r>
                            </m:den>
                          </m:f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ikx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w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,</m:t>
                          </m:r>
                        </m:e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k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m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grpSp>
        <p:nvGrpSpPr>
          <p:cNvPr id="65" name=""/>
          <p:cNvGrpSpPr/>
          <p:nvPr/>
        </p:nvGrpSpPr>
        <p:grpSpPr>
          <a:xfrm>
            <a:off x="950040" y="7391520"/>
            <a:ext cx="11470680" cy="2154240"/>
            <a:chOff x="950040" y="7391520"/>
            <a:chExt cx="11470680" cy="215424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8915400" y="7391520"/>
              <a:ext cx="3505320" cy="21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50040" y="7543800"/>
              <a:ext cx="608472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Unfortunately, the integrand is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adly  behaved and difficult to 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evaluate even numerically.</a:t>
              </a:r>
              <a:r>
                <a:rPr b="0" lang="en-US" sz="36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295280" y="1523880"/>
                <a:ext cx="98949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  <m:m>
                      <m:m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k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w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,</m:t>
                          </m:r>
                        </m:e>
                        <m:e/>
                      </m:mr>
                    </m:m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m>
                      <m:mr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  <m:sup/>
                          </m:sSubSup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95280" y="3505320"/>
                <a:ext cx="111506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e>
                    </m:nary>
                    <m:m>
                      <m:mr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  <m:sup/>
                          </m:sSubSup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iw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t</m:t>
                              </m:r>
                            </m:sup>
                          </m:sSup>
                        </m:e>
                        <m:e/>
                      </m:mr>
                    </m:m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m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4503960" y="228600"/>
            <a:ext cx="3036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Propagato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705720" y="5867280"/>
                <a:ext cx="5740200" cy="34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</m:nary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  <m:sup/>
                              </m:sSubSup>
                              <m:r>
                                <m:t xml:space="preserve">(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iw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t</m:t>
                                  </m:r>
                                </m:sup>
                              </m:sSup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p</m:t>
                                </m:r>
                              </m:e>
                            </m:rad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-¥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e>
                        </m:nary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k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t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/>
                            <m:e/>
                            <m:e/>
                          </m:mr>
                        </m:m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43000" y="5334120"/>
            <a:ext cx="4986360" cy="1254240"/>
            <a:chOff x="1143000" y="5334120"/>
            <a:chExt cx="4986360" cy="1254240"/>
          </a:xfrm>
        </p:grpSpPr>
        <p:grpSp>
          <p:nvGrpSpPr>
            <p:cNvPr id="73" name=""/>
            <p:cNvGrpSpPr/>
            <p:nvPr/>
          </p:nvGrpSpPr>
          <p:grpSpPr>
            <a:xfrm>
              <a:off x="1143000" y="5334120"/>
              <a:ext cx="1550880" cy="796320"/>
              <a:chOff x="1143000" y="5334120"/>
              <a:chExt cx="1550880" cy="796320"/>
            </a:xfrm>
          </p:grpSpPr>
          <p:sp>
            <p:nvSpPr>
              <p:cNvPr id="74" name=""/>
              <p:cNvSpPr/>
              <p:nvPr/>
            </p:nvSpPr>
            <p:spPr>
              <a:xfrm>
                <a:off x="2424240" y="5334120"/>
                <a:ext cx="183960" cy="58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5" name=""/>
                  <p:cNvSpPr txBox="1"/>
                  <p:nvPr/>
                </p:nvSpPr>
                <p:spPr>
                  <a:xfrm>
                    <a:off x="1143000" y="5672160"/>
                    <a:ext cx="1550880" cy="458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;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6" name=""/>
            <p:cNvSpPr/>
            <p:nvPr/>
          </p:nvSpPr>
          <p:spPr>
            <a:xfrm>
              <a:off x="1371600" y="5519520"/>
              <a:ext cx="475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is a free 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article </a:t>
              </a:r>
              <a:r>
                <a:rPr b="0" lang="en-US" sz="3200" spc="-1" strike="noStrike">
                  <a:solidFill>
                    <a:srgbClr val="eaf60b"/>
                  </a:solidFill>
                  <a:latin typeface="Comic Sans MS"/>
                </a:rPr>
                <a:t>propagator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990720" y="7772400"/>
            <a:ext cx="5144040" cy="958680"/>
            <a:chOff x="990720" y="7772400"/>
            <a:chExt cx="5144040" cy="958680"/>
          </a:xfrm>
        </p:grpSpPr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990720" y="7772400"/>
                  <a:ext cx="1418760" cy="95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ih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m</m:t>
                          </m:r>
                        </m:den>
                      </m:f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769120" y="7848360"/>
              <a:ext cx="336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imaginary time”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29840" y="380880"/>
            <a:ext cx="87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f60b"/>
                </a:solidFill>
                <a:latin typeface="Comic Sans MS"/>
              </a:rPr>
              <a:t>Calculate evolution of the wavefunction 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f60b"/>
                </a:solidFill>
                <a:latin typeface="Comic Sans MS"/>
              </a:rPr>
              <a:t>using the propagato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2286000"/>
                <a:ext cx="53449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m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96080" y="2362320"/>
                <a:ext cx="40258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;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y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3" name="Macintosh HD:Users:franz:qm-anime:packets:s0-anim.gif" descr=""/>
          <p:cNvPicPr/>
          <p:nvPr/>
        </p:nvPicPr>
        <p:blipFill>
          <a:blip r:embed="rId1"/>
          <a:stretch/>
        </p:blipFill>
        <p:spPr>
          <a:xfrm>
            <a:off x="4114800" y="4495680"/>
            <a:ext cx="54864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600200" y="1447920"/>
                <a:ext cx="326700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391520" y="1600200"/>
                <a:ext cx="35668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p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362320" y="0"/>
            <a:ext cx="845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Example 2: Gaussian wavepack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87" name="Macintosh HD:Users:franz:qm-anime:packets:s2-anim.gif" descr=""/>
          <p:cNvPicPr/>
          <p:nvPr/>
        </p:nvPicPr>
        <p:blipFill>
          <a:blip r:embed="rId1"/>
          <a:stretch/>
        </p:blipFill>
        <p:spPr>
          <a:xfrm>
            <a:off x="3809880" y="5943600"/>
            <a:ext cx="5486400" cy="2184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29000" y="3733920"/>
                <a:ext cx="647064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ha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ihat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304920"/>
            <a:ext cx="11963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Example 3: moving Gaussian wavepacke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295280" y="1676520"/>
                <a:ext cx="3697560" cy="12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p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l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6422040" y="1600200"/>
            <a:ext cx="476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o we know this i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 moving wavepacket?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89600" y="3733920"/>
            <a:ext cx="5036040" cy="2412720"/>
            <a:chOff x="489600" y="3733920"/>
            <a:chExt cx="5036040" cy="2412720"/>
          </a:xfrm>
        </p:grpSpPr>
        <p:sp>
          <p:nvSpPr>
            <p:cNvPr id="93" name=""/>
            <p:cNvSpPr/>
            <p:nvPr/>
          </p:nvSpPr>
          <p:spPr>
            <a:xfrm>
              <a:off x="489600" y="3733920"/>
              <a:ext cx="5036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Calculate the momentum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expectation value: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685800" y="5486400"/>
                  <a:ext cx="43578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⟨"/>
                          <m:endChr m:val="⟩"/>
                        </m:dPr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p</m:t>
                              </m:r>
                            </m:e>
                          </m:acc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  <m:sSup>
                        <m:e>
                          <m:r>
                            <m:t xml:space="preserve">Y</m:t>
                          </m:r>
                        </m:e>
                        <m:sup/>
                      </m:sSup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ih</m:t>
                      </m:r>
                      <m:sSub>
                        <m:e>
                          <m:r>
                            <m:t xml:space="preserve">¶</m:t>
                          </m:r>
                        </m:e>
                        <m:sub>
                          <m:r>
                            <m:t xml:space="preserve">x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hl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" name="Macintosh HD:Users:franz:qm-anime:packets:s3-anim.gif" descr=""/>
          <p:cNvPicPr/>
          <p:nvPr/>
        </p:nvPicPr>
        <p:blipFill>
          <a:blip r:embed="rId1"/>
          <a:stretch/>
        </p:blipFill>
        <p:spPr>
          <a:xfrm>
            <a:off x="5689440" y="3733920"/>
            <a:ext cx="7315200" cy="29210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609480" y="6781680"/>
            <a:ext cx="12395160" cy="1974960"/>
            <a:chOff x="609480" y="6781680"/>
            <a:chExt cx="12395160" cy="1974960"/>
          </a:xfrm>
        </p:grpSpPr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609480" y="7467480"/>
                  <a:ext cx="8913960" cy="12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p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sup>
                      </m:sSup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l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a</m:t>
                          </m:r>
                        </m:sup>
                      </m:sSup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exp</m:t>
                          </m:r>
                          <m:r>
                            <m:t xml:space="preserve">[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il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a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ihat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  <m:r>
                            <m:t xml:space="preserve">)</m:t>
                          </m:r>
                          <m:r>
                            <m:t xml:space="preserve">]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hat</m:t>
                                  </m:r>
                                </m:num>
                                <m:den>
                                  <m:r>
                                    <m:t xml:space="preserve">m</m:t>
                                  </m:r>
                                </m:den>
                              </m:f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98" name=""/>
            <p:cNvGrpSpPr/>
            <p:nvPr/>
          </p:nvGrpSpPr>
          <p:grpSpPr>
            <a:xfrm>
              <a:off x="10642680" y="6781680"/>
              <a:ext cx="2361960" cy="1067040"/>
              <a:chOff x="10642680" y="6781680"/>
              <a:chExt cx="2361960" cy="1067040"/>
            </a:xfrm>
          </p:grpSpPr>
          <p:sp>
            <p:nvSpPr>
              <p:cNvPr id="99" name=""/>
              <p:cNvSpPr/>
              <p:nvPr/>
            </p:nvSpPr>
            <p:spPr>
              <a:xfrm>
                <a:off x="10642680" y="6781680"/>
                <a:ext cx="2361960" cy="1067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800000" y="7072560"/>
                <a:ext cx="472320" cy="0"/>
              </a:xfrm>
              <a:prstGeom prst="line">
                <a:avLst/>
              </a:prstGeom>
              <a:ln w="28440">
                <a:solidFill>
                  <a:srgbClr val="ff161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800000" y="7509240"/>
                <a:ext cx="47232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2" name=""/>
                  <p:cNvSpPr txBox="1"/>
                  <p:nvPr/>
                </p:nvSpPr>
                <p:spPr>
                  <a:xfrm>
                    <a:off x="11535120" y="6927120"/>
                    <a:ext cx="1249560" cy="251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3" name=""/>
                  <p:cNvSpPr txBox="1"/>
                  <p:nvPr/>
                </p:nvSpPr>
                <p:spPr>
                  <a:xfrm>
                    <a:off x="11587320" y="7315200"/>
                    <a:ext cx="863640" cy="335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12039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Example 4: wavepacket reflected from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f60b"/>
                </a:solidFill>
                <a:latin typeface="Comic Sans MS"/>
              </a:rPr>
              <a:t>a hard wall</a:t>
            </a: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48160" y="2514600"/>
            <a:ext cx="4062240" cy="1235160"/>
            <a:chOff x="848160" y="2514600"/>
            <a:chExt cx="4062240" cy="1235160"/>
          </a:xfrm>
        </p:grpSpPr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2057400" y="3352680"/>
                  <a:ext cx="168444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848160" y="2514600"/>
              <a:ext cx="406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Boundary condition: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68200" y="4191120"/>
            <a:ext cx="4051440" cy="1377720"/>
            <a:chOff x="1168200" y="4191120"/>
            <a:chExt cx="4051440" cy="1377720"/>
          </a:xfrm>
        </p:grpSpPr>
        <p:sp>
          <p:nvSpPr>
            <p:cNvPr id="109" name=""/>
            <p:cNvSpPr/>
            <p:nvPr/>
          </p:nvSpPr>
          <p:spPr>
            <a:xfrm>
              <a:off x="1168200" y="4191120"/>
              <a:ext cx="249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Eigenstates: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64000" y="51721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752480" y="5029200"/>
                  <a:ext cx="346716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Aq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2" name=""/>
          <p:cNvGrpSpPr/>
          <p:nvPr/>
        </p:nvGrpSpPr>
        <p:grpSpPr>
          <a:xfrm>
            <a:off x="1097280" y="5867280"/>
            <a:ext cx="9057960" cy="3086280"/>
            <a:chOff x="1097280" y="5867280"/>
            <a:chExt cx="9057960" cy="3086280"/>
          </a:xfrm>
        </p:grpSpPr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3062160" y="6705720"/>
                  <a:ext cx="7093080" cy="22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-¥</m:t>
                              </m:r>
                            </m:sub>
                            <m:sup>
                              <m:r>
                                <m:t xml:space="preserve">¥</m:t>
                              </m:r>
                            </m: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dk</m:t>
                              </m:r>
                            </m:e>
                          </m:nary>
                          <m:m>
                            <m:mr>
                              <m:e>
                                <m:sSub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i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  <m:e/>
                            </m:mr>
                          </m:m>
                        </m:e>
                        <m:e>
                          <m:m>
                            <m:mr>
                              <m:e/>
                              <m:e/>
                              <m:e/>
                            </m:mr>
                          </m:m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q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r>
                                <m:t xml:space="preserve">)</m:t>
                              </m:r>
                            </m:num>
                            <m:den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t</m:t>
                                  </m:r>
                                </m:e>
                              </m:rad>
                            </m:den>
                          </m:f>
                          <m:r>
                            <m:t xml:space="preserve">[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y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y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t</m:t>
                              </m:r>
                            </m:sup>
                          </m:sSup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"/>
            <p:cNvSpPr/>
            <p:nvPr/>
          </p:nvSpPr>
          <p:spPr>
            <a:xfrm>
              <a:off x="1097280" y="5867280"/>
              <a:ext cx="246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ropagator:</a:t>
              </a:r>
              <a:endParaRPr b="0" lang="en-US" sz="3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91520" y="2666880"/>
            <a:ext cx="5181480" cy="3581640"/>
            <a:chOff x="7391520" y="2666880"/>
            <a:chExt cx="5181480" cy="3581640"/>
          </a:xfrm>
        </p:grpSpPr>
        <p:sp>
          <p:nvSpPr>
            <p:cNvPr id="116" name=""/>
            <p:cNvSpPr/>
            <p:nvPr/>
          </p:nvSpPr>
          <p:spPr>
            <a:xfrm>
              <a:off x="7391520" y="2666880"/>
              <a:ext cx="5181480" cy="358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848720" y="579132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058400" y="2971800"/>
              <a:ext cx="1981080" cy="2819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058400" y="281916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27640" y="57913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Gill San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16160" y="580716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Gill San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047240" y="58071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01000" y="4800600"/>
              <a:ext cx="1295280" cy="0"/>
            </a:xfrm>
            <a:prstGeom prst="line">
              <a:avLst/>
            </a:prstGeom>
            <a:ln w="25560">
              <a:solidFill>
                <a:srgbClr val="ff161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1000" y="5181480"/>
              <a:ext cx="1295280" cy="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8185320" y="3097080"/>
                  <a:ext cx="85860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6" name=""/>
                <p:cNvSpPr txBox="1"/>
                <p:nvPr/>
              </p:nvSpPr>
              <p:spPr>
                <a:xfrm>
                  <a:off x="10820520" y="3048120"/>
                  <a:ext cx="89208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rPr>
                          <m:lit/>
                          <m:nor/>
                        </m:rPr>
                        <m:t xml:space="preserve">=¥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1447920"/>
                <a:ext cx="534492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-¥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  <m:m>
                      <m:mr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y</m:t>
                          </m:r>
                          <m:r>
                            <m:t xml:space="preserve">;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y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pic>
        <p:nvPicPr>
          <p:cNvPr id="128" name="Macintosh HD:Users:franz:qm-anime:packets:s4-anim.gif" descr=""/>
          <p:cNvPicPr/>
          <p:nvPr/>
        </p:nvPicPr>
        <p:blipFill>
          <a:blip r:embed="rId1"/>
          <a:stretch/>
        </p:blipFill>
        <p:spPr>
          <a:xfrm>
            <a:off x="2743200" y="3733920"/>
            <a:ext cx="7315200" cy="29210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696080" y="6858000"/>
            <a:ext cx="2362320" cy="1066680"/>
            <a:chOff x="7696080" y="6858000"/>
            <a:chExt cx="2362320" cy="1066680"/>
          </a:xfrm>
        </p:grpSpPr>
        <p:sp>
          <p:nvSpPr>
            <p:cNvPr id="130" name=""/>
            <p:cNvSpPr/>
            <p:nvPr/>
          </p:nvSpPr>
          <p:spPr>
            <a:xfrm>
              <a:off x="7696080" y="6858000"/>
              <a:ext cx="2362320" cy="1066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3400" y="7148880"/>
              <a:ext cx="472320" cy="0"/>
            </a:xfrm>
            <a:prstGeom prst="line">
              <a:avLst/>
            </a:prstGeom>
            <a:ln w="28440">
              <a:solidFill>
                <a:srgbClr val="ff161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53400" y="7585200"/>
              <a:ext cx="472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8588520" y="7003440"/>
                  <a:ext cx="1249920" cy="25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[</m:t>
                      </m:r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8640720" y="7391520"/>
                  <a:ext cx="86400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a Franzova</cp:lastModifiedBy>
  <dcterms:modified xsi:type="dcterms:W3CDTF">2004-10-13T03:41:19Z</dcterms:modified>
  <cp:revision>53</cp:revision>
  <dc:subject/>
  <dc:title>PowerPoint Presentation</dc:title>
</cp:coreProperties>
</file>