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0.pct" ContentType="image/x-pict"/>
  <Override PartName="/ppt/media/image17.png" ContentType="image/png"/>
  <Override PartName="/ppt/media/image16.png" ContentType="image/png"/>
  <Override PartName="/ppt/media/image15.png" ContentType="image/png"/>
  <Override PartName="/ppt/media/image7.pct" ContentType="image/x-pict"/>
  <Override PartName="/ppt/media/image1.png" ContentType="image/png"/>
  <Override PartName="/ppt/media/image2.jpeg" ContentType="image/jpeg"/>
  <Override PartName="/ppt/media/image14.pct" ContentType="image/x-pict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50160" y="388800"/>
            <a:ext cx="11702520" cy="75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2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5560" indent="0" algn="ctr"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marL="6591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06128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4637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186624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268360" indent="-379800">
              <a:spcAft>
                <a:spcPts val="2599"/>
              </a:spcAft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268360" indent="-37980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ct"/><Relationship Id="rId4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1104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article in a box”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39" name=""/>
          <p:cNvGrpSpPr/>
          <p:nvPr/>
        </p:nvGrpSpPr>
        <p:grpSpPr>
          <a:xfrm>
            <a:off x="1295280" y="2514600"/>
            <a:ext cx="3657600" cy="3733560"/>
            <a:chOff x="1295280" y="2514600"/>
            <a:chExt cx="3657600" cy="3733560"/>
          </a:xfrm>
        </p:grpSpPr>
        <p:sp>
          <p:nvSpPr>
            <p:cNvPr id="40" name=""/>
            <p:cNvSpPr/>
            <p:nvPr/>
          </p:nvSpPr>
          <p:spPr>
            <a:xfrm>
              <a:off x="1295280" y="2514600"/>
              <a:ext cx="3657600" cy="37335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752480" y="289548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752480" y="5715000"/>
              <a:ext cx="2819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3" name=""/>
            <p:cNvSpPr/>
            <p:nvPr/>
          </p:nvSpPr>
          <p:spPr>
            <a:xfrm flipV="1">
              <a:off x="4572000" y="2895480"/>
              <a:ext cx="0" cy="281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589040" y="5730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Gill San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56160" y="5806800"/>
              <a:ext cx="1839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03520" y="5790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99"/>
                  </a:solidFill>
                  <a:latin typeface="Gill Sans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4724280"/>
              <a:ext cx="762120" cy="762120"/>
            </a:xfrm>
            <a:prstGeom prst="smileyFace">
              <a:avLst>
                <a:gd name="adj" fmla="val 928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6019920" y="2286000"/>
            <a:ext cx="5219640" cy="1971720"/>
            <a:chOff x="6019920" y="2286000"/>
            <a:chExt cx="5219640" cy="1971720"/>
          </a:xfrm>
        </p:grpSpPr>
        <mc:AlternateContent>
          <mc:Choice xmlns:a14="http://schemas.microsoft.com/office/drawing/2010/main" Requires="a14">
            <p:sp>
              <p:nvSpPr>
                <p:cNvPr id="49" name=""/>
                <p:cNvSpPr txBox="1"/>
                <p:nvPr/>
              </p:nvSpPr>
              <p:spPr>
                <a:xfrm>
                  <a:off x="7772400" y="3200400"/>
                  <a:ext cx="3467160" cy="105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deg/>
                        <m:e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a</m:t>
                              </m:r>
                            </m:den>
                          </m:f>
                        </m:e>
                      </m:rad>
                      <m:r>
                        <m:rPr>
                          <m:lit/>
                          <m:nor/>
                        </m:rPr>
                        <m:t xml:space="preserve">sin</m:t>
                      </m:r>
                      <m:r>
                        <m:t xml:space="preserve">(</m:t>
                      </m:r>
                      <m:r>
                        <m:t xml:space="preserve">pn</m:t>
                      </m:r>
                      <m:f>
                        <m:num>
                          <m:r>
                            <m:t xml:space="preserve">x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50" name=""/>
            <p:cNvSpPr/>
            <p:nvPr/>
          </p:nvSpPr>
          <p:spPr>
            <a:xfrm>
              <a:off x="6019920" y="2286000"/>
              <a:ext cx="32684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Eigenstates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6172200" y="4419720"/>
            <a:ext cx="4454640" cy="1938240"/>
            <a:chOff x="6172200" y="4419720"/>
            <a:chExt cx="4454640" cy="1938240"/>
          </a:xfrm>
        </p:grpSpPr>
        <mc:AlternateContent>
          <mc:Choice xmlns:a14="http://schemas.microsoft.com/office/drawing/2010/main" Requires="a14">
            <p:sp>
              <p:nvSpPr>
                <p:cNvPr id="52" name=""/>
                <p:cNvSpPr txBox="1"/>
                <p:nvPr/>
              </p:nvSpPr>
              <p:spPr>
                <a:xfrm>
                  <a:off x="8381880" y="5334120"/>
                  <a:ext cx="2244960" cy="102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p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2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a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sSup>
                        <m:e>
                          <m:r>
                            <m:t xml:space="preserve">n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53" name=""/>
            <p:cNvSpPr/>
            <p:nvPr/>
          </p:nvSpPr>
          <p:spPr>
            <a:xfrm>
              <a:off x="6172200" y="4419720"/>
              <a:ext cx="3187800" cy="137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200" spc="-1" strike="noStrike">
                  <a:solidFill>
                    <a:srgbClr val="ffffff"/>
                  </a:solidFill>
                  <a:latin typeface="Comic Sans MS"/>
                </a:rPr>
                <a:t>Eigenvalues:</a:t>
              </a:r>
              <a:endParaRPr b="0" lang="en-US" sz="4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56840"/>
            <a:ext cx="11048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5560" indent="0" algn="ctr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Wavefunction properties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4952880" y="3200400"/>
                <a:ext cx="35337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914400" y="2209680"/>
            <a:ext cx="5410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Orthonormality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105520" y="5867280"/>
                <a:ext cx="290484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¥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1371600" y="472428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Completness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4651200" cy="2857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4651560" cy="2857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989760" y="5829480"/>
            <a:ext cx="4651200" cy="28573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389240" y="5829480"/>
            <a:ext cx="465120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209680" y="4267080"/>
                <a:ext cx="30369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p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696080" y="4267080"/>
                <a:ext cx="3235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p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584440" y="8774280"/>
                <a:ext cx="24415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985160" y="8763120"/>
                <a:ext cx="2475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4453560" y="0"/>
            <a:ext cx="4371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tationary states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7086600" y="990720"/>
                <a:ext cx="3892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809880" y="7696080"/>
                <a:ext cx="5673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920520" y="1066680"/>
            <a:ext cx="5487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Linear superposi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1" name="Macintosh HD:Users:franz:qm-anime:s2-1anim.gif" descr=""/>
          <p:cNvPicPr/>
          <p:nvPr/>
        </p:nvPicPr>
        <p:blipFill>
          <a:blip r:embed="rId1"/>
          <a:stretch/>
        </p:blipFill>
        <p:spPr>
          <a:xfrm>
            <a:off x="2844720" y="2622600"/>
            <a:ext cx="7315200" cy="450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7086600" y="990720"/>
                <a:ext cx="38926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809880" y="7696080"/>
                <a:ext cx="5673960" cy="95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920520" y="1066680"/>
            <a:ext cx="5487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Linear superposi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75" name="Macintosh HD:Users:franz:qm-anime:s3-1anim.gif" descr=""/>
          <p:cNvPicPr/>
          <p:nvPr/>
        </p:nvPicPr>
        <p:blipFill>
          <a:blip r:embed="rId1"/>
          <a:stretch/>
        </p:blipFill>
        <p:spPr>
          <a:xfrm>
            <a:off x="2819520" y="2514600"/>
            <a:ext cx="7315200" cy="45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995480" y="4267080"/>
                <a:ext cx="34653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p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580160" y="4267080"/>
                <a:ext cx="34671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p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4651560" cy="28573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7010280" y="1219320"/>
            <a:ext cx="4651560" cy="2857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797280" y="8458200"/>
                <a:ext cx="600408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  <m:sSup>
                      <m:e>
                        <m:r>
                          <m:t xml:space="preserve">|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81" name="Macintosh HD:Users:franz:qm-anime:s4-1anim.gif" descr=""/>
          <p:cNvPicPr/>
          <p:nvPr/>
        </p:nvPicPr>
        <p:blipFill>
          <a:blip r:embed="rId3"/>
          <a:stretch/>
        </p:blipFill>
        <p:spPr>
          <a:xfrm>
            <a:off x="4495680" y="5334120"/>
            <a:ext cx="4862520" cy="2987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0"/>
            <a:ext cx="8458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Another linear superposition: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1752480"/>
                <a:ext cx="320184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143000" y="2743200"/>
                <a:ext cx="4788000" cy="25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ad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np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" name=""/>
          <p:cNvSpPr/>
          <p:nvPr/>
        </p:nvSpPr>
        <p:spPr>
          <a:xfrm>
            <a:off x="4800600" y="304920"/>
            <a:ext cx="388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Delta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8534520" y="3733920"/>
            <a:ext cx="3762360" cy="2168280"/>
            <a:chOff x="8534520" y="3733920"/>
            <a:chExt cx="3762360" cy="2168280"/>
          </a:xfrm>
        </p:grpSpPr>
        <p:pic>
          <p:nvPicPr>
            <p:cNvPr id="87" name="" descr=""/>
            <p:cNvPicPr/>
            <p:nvPr/>
          </p:nvPicPr>
          <p:blipFill>
            <a:blip r:embed="rId1"/>
            <a:stretch/>
          </p:blipFill>
          <p:spPr>
            <a:xfrm>
              <a:off x="8534520" y="3886200"/>
              <a:ext cx="3281400" cy="201600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88" name=""/>
                <p:cNvSpPr txBox="1"/>
                <p:nvPr/>
              </p:nvSpPr>
              <p:spPr>
                <a:xfrm>
                  <a:off x="10744200" y="3733920"/>
                  <a:ext cx="1552680" cy="46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" name=""/>
          <p:cNvGrpSpPr/>
          <p:nvPr/>
        </p:nvGrpSpPr>
        <p:grpSpPr>
          <a:xfrm>
            <a:off x="8534520" y="6400800"/>
            <a:ext cx="3686040" cy="2098800"/>
            <a:chOff x="8534520" y="6400800"/>
            <a:chExt cx="3686040" cy="2098800"/>
          </a:xfrm>
        </p:grpSpPr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8534520" y="6477120"/>
              <a:ext cx="3290760" cy="202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10667880" y="6400800"/>
                  <a:ext cx="15526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8534520" y="1371600"/>
            <a:ext cx="3281400" cy="2016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744200" y="1295280"/>
                <a:ext cx="151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Macintosh HD:Users:franz:qm-anime:s5-animation.gif" descr=""/>
          <p:cNvPicPr/>
          <p:nvPr/>
        </p:nvPicPr>
        <p:blipFill>
          <a:blip r:embed="rId4"/>
          <a:stretch/>
        </p:blipFill>
        <p:spPr>
          <a:xfrm>
            <a:off x="1143000" y="5943600"/>
            <a:ext cx="5486400" cy="337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6553080" y="8991720"/>
                <a:ext cx="151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0223"/>
            </a:gs>
            <a:gs pos="100000">
              <a:srgbClr val="160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71600" y="1371600"/>
                <a:ext cx="369720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295280" y="2133720"/>
                <a:ext cx="4491000" cy="341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  <m:e>
                        <m:rad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f>
                          <m:num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np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]</m:t>
                            </m:r>
                          </m:num>
                          <m:den>
                            <m:r>
                              <m:t xml:space="preserve">np</m:t>
                            </m:r>
                          </m:den>
                        </m:f>
                      </m:e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¥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w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t</m:t>
                                </m:r>
                              </m:sup>
                            </m:sSup>
                          </m:e>
                        </m:nary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800600" y="304920"/>
            <a:ext cx="3886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Step function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534520" y="1447920"/>
            <a:ext cx="32814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8534520" y="3886200"/>
            <a:ext cx="3762360" cy="2174760"/>
            <a:chOff x="8534520" y="3886200"/>
            <a:chExt cx="3762360" cy="217476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8534520" y="4038480"/>
              <a:ext cx="3290760" cy="202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10744200" y="3886200"/>
                  <a:ext cx="15526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" name=""/>
          <p:cNvGrpSpPr/>
          <p:nvPr/>
        </p:nvGrpSpPr>
        <p:grpSpPr>
          <a:xfrm>
            <a:off x="8610480" y="6553080"/>
            <a:ext cx="3610080" cy="2175120"/>
            <a:chOff x="8610480" y="6553080"/>
            <a:chExt cx="3610080" cy="2175120"/>
          </a:xfrm>
        </p:grpSpPr>
        <p:pic>
          <p:nvPicPr>
            <p:cNvPr id="104" name="" descr=""/>
            <p:cNvPicPr/>
            <p:nvPr/>
          </p:nvPicPr>
          <p:blipFill>
            <a:blip r:embed="rId3"/>
            <a:stretch/>
          </p:blipFill>
          <p:spPr>
            <a:xfrm>
              <a:off x="8610480" y="6705720"/>
              <a:ext cx="3291120" cy="202248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105" name=""/>
                <p:cNvSpPr txBox="1"/>
                <p:nvPr/>
              </p:nvSpPr>
              <p:spPr>
                <a:xfrm>
                  <a:off x="10667880" y="6553080"/>
                  <a:ext cx="155268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4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6" name=""/>
          <p:cNvGrpSpPr/>
          <p:nvPr/>
        </p:nvGrpSpPr>
        <p:grpSpPr>
          <a:xfrm>
            <a:off x="8915400" y="1295280"/>
            <a:ext cx="3346560" cy="1752480"/>
            <a:chOff x="8915400" y="1295280"/>
            <a:chExt cx="3346560" cy="1752480"/>
          </a:xfrm>
        </p:grpSpPr>
        <mc:AlternateContent>
          <mc:Choice xmlns:a14="http://schemas.microsoft.com/office/drawing/2010/main" Requires="a14">
            <p:sp>
              <p:nvSpPr>
                <p:cNvPr id="107" name=""/>
                <p:cNvSpPr txBox="1"/>
                <p:nvPr/>
              </p:nvSpPr>
              <p:spPr>
                <a:xfrm>
                  <a:off x="10744200" y="1295280"/>
                  <a:ext cx="1517760" cy="46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n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08" name=""/>
            <p:cNvSpPr/>
            <p:nvPr/>
          </p:nvSpPr>
          <p:spPr>
            <a:xfrm>
              <a:off x="8915400" y="1828800"/>
              <a:ext cx="1447920" cy="0"/>
            </a:xfrm>
            <a:prstGeom prst="line">
              <a:avLst/>
            </a:prstGeom>
            <a:ln w="28440">
              <a:solidFill>
                <a:srgbClr val="160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10363320" y="1828440"/>
              <a:ext cx="0" cy="1219320"/>
            </a:xfrm>
            <a:prstGeom prst="line">
              <a:avLst/>
            </a:prstGeom>
            <a:ln w="28440">
              <a:solidFill>
                <a:srgbClr val="160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pic>
        <p:nvPicPr>
          <p:cNvPr id="110" name="Macintosh HD:Users:franz:qm-anime:s6-anim.gif" descr=""/>
          <p:cNvPicPr/>
          <p:nvPr/>
        </p:nvPicPr>
        <p:blipFill>
          <a:blip r:embed="rId4"/>
          <a:stretch/>
        </p:blipFill>
        <p:spPr>
          <a:xfrm>
            <a:off x="1219320" y="6019920"/>
            <a:ext cx="5486400" cy="33782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6705720" y="8991720"/>
                <a:ext cx="15508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129a"/>
            </a:gs>
            <a:gs pos="100000">
              <a:srgbClr val="1f1f1f"/>
            </a:gs>
          </a:gsLst>
          <a:lin ang="160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a4.mov" descr=""/>
          <p:cNvPicPr/>
          <p:nvPr/>
        </p:nvPicPr>
        <p:blipFill>
          <a:blip r:embed="rId1"/>
          <a:stretch/>
        </p:blipFill>
        <p:spPr>
          <a:xfrm>
            <a:off x="3048120" y="2362320"/>
            <a:ext cx="731340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70320" y="3828960"/>
            <a:ext cx="429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66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Lucida Grande"/>
              </a:rPr>
              <a:t>Ψ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762120"/>
            <a:ext cx="3544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Comic Sans MS"/>
              </a:rPr>
              <a:t>What is this?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ora Franzova</cp:lastModifiedBy>
  <dcterms:modified xsi:type="dcterms:W3CDTF">2004-09-22T18:30:34Z</dcterms:modified>
  <cp:revision>31</cp:revision>
  <dc:subject/>
  <dc:title>PowerPoint Presentation</dc:title>
</cp:coreProperties>
</file>